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8.xml" ContentType="application/vnd.openxmlformats-officedocument.presentationml.comments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6-08-26T23:18:39.386000000" idx="2">
    <p:pos x="794" y="4048"/>
    <p:text/>
  </p:cm>
</p:cmLst>
</file>

<file path=ppt/comments/comment8.xml><?xml version="1.0" encoding="utf-8"?>
<p:cmLst xmlns:p="http://schemas.openxmlformats.org/presentationml/2006/main">
  <p:cm authorId="0" dt="2016-08-26T23:18:32.451000000" idx="1">
    <p:pos x="3995" y="73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23B-A018-4B55-9477-7CC6BD26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48D-9254-4EEB-B0BA-469EA30E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E05-75F2-4E9B-BD02-F1B6BEEA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AE6-342B-4A1E-8447-943EA611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68D1-548A-484A-8EF0-99D656D1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A52A-8333-4942-B75C-08892C92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3D3C-9C80-4D7E-AB62-E43BBA2F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0327-3C6E-41D3-9F30-3E065933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7485-7CEC-498B-BC5F-B6F2A7C6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4CB7-78E6-40FD-BE66-3B89A419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4E25-1E8B-4584-8C1A-EA11B640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58D-A0C8-4D6F-A220-B077C81E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8685-C354-4DBC-8E2D-BA6F5570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BF50-1331-4129-BF05-A4ABAB30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6334-4EA9-4FE3-8AA1-009D0F14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F5E3-B753-4FB3-B7D0-A5628780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684E-1E51-4E5F-AA86-B0648904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3D1-6480-41BB-AAC9-9912C425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CBF-3C14-4BB5-9A0F-6E00CE67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47B-D933-494F-A3E0-7BE7C4B7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179-0F9B-46AB-A7F5-C18448C7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535-0DA7-4A03-95C2-E22F126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B40-069E-4B51-BCA2-2D0D5965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B30-4E42-4C8E-8A28-EC5964FF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174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174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174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174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174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175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175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date/time&gt;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1A0E-31E0-4C8C-9242-A0BF4B979676}" type="slidenum"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number&gt;</a:t>
            </a:fld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3276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3277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277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277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277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3277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3277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date/time&gt;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1252-CC04-4B7D-B5FB-7570C059A272}" type="slidenum"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number&gt;</a:t>
            </a:fld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../../../4.15&#19968;&#25913;&#31295;/&#35838;&#20214;&#25913;/4.16&#609; k h/k&#30340;&#20889;&#27861;.swf" TargetMode="External"/><Relationship Id="rId3" Type="http://schemas.openxmlformats.org/officeDocument/2006/relationships/hyperlink" Target="../../../4.15&#19968;&#25913;&#31295;/&#35838;&#20214;&#25913;/4.16&#609; k h/k&#30340;&#20889;&#27861;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../../../4.15&#19968;&#25913;&#31295;/&#35838;&#20214;&#25913;/4.16&#609; k h/h&#30340;&#20889;&#27861;.swf" TargetMode="External"/><Relationship Id="rId3" Type="http://schemas.openxmlformats.org/officeDocument/2006/relationships/hyperlink" Target="../../../4.15&#19968;&#25913;&#31295;/&#35838;&#20214;&#25913;/4.16&#609; k h/h&#30340;&#20889;&#27861;.swf" TargetMode="External"/><Relationship Id="rId4" Type="http://schemas.openxmlformats.org/officeDocument/2006/relationships/hyperlink" Target="../../../4.15&#19968;&#25913;&#31295;/&#35838;&#20214;&#25913;/4.16&#609; k h/h&#30340;&#20889;&#27861;.swf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1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102" name="矩形 4"/>
          <p:cNvSpPr/>
          <p:nvPr/>
        </p:nvSpPr>
        <p:spPr>
          <a:xfrm>
            <a:off x="3659040" y="649440"/>
            <a:ext cx="33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g  k  h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3"/>
          <p:cNvSpPr/>
          <p:nvPr/>
        </p:nvSpPr>
        <p:spPr>
          <a:xfrm>
            <a:off x="4427640" y="12682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d"/>
              </a:gs>
              <a:gs pos="100000">
                <a:srgbClr val="d8d7e3"/>
              </a:gs>
            </a:gsLst>
            <a:lin ang="5400000"/>
          </a:gradFill>
          <a:ln w="648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圆角矩形 2"/>
          <p:cNvSpPr/>
          <p:nvPr/>
        </p:nvSpPr>
        <p:spPr>
          <a:xfrm>
            <a:off x="5805360" y="3068640"/>
            <a:ext cx="2087640" cy="164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940360" y="306864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歌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2690640" cy="361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4591080" y="1022400"/>
            <a:ext cx="458316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b0f0"/>
                </a:solidFill>
                <a:uFillTx/>
                <a:latin typeface="宋体"/>
                <a:ea typeface="宋体"/>
              </a:rPr>
              <a:t>g ē  gē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圆角矩形 3"/>
          <p:cNvSpPr/>
          <p:nvPr/>
        </p:nvSpPr>
        <p:spPr>
          <a:xfrm>
            <a:off x="4427640" y="12682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d"/>
              </a:gs>
              <a:gs pos="100000">
                <a:srgbClr val="d8d7e3"/>
              </a:gs>
            </a:gsLst>
            <a:lin ang="5400000"/>
          </a:gradFill>
          <a:ln w="648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" name="圆角矩形 2"/>
          <p:cNvSpPr/>
          <p:nvPr/>
        </p:nvSpPr>
        <p:spPr>
          <a:xfrm>
            <a:off x="5805360" y="3068640"/>
            <a:ext cx="2087640" cy="164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940360" y="306864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苦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591080" y="1022400"/>
            <a:ext cx="458316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b0f0"/>
                </a:solidFill>
                <a:uFillTx/>
                <a:latin typeface="宋体"/>
                <a:ea typeface="宋体"/>
              </a:rPr>
              <a:t>k ǔ  kǔ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5" name="图片 5" descr=""/>
          <p:cNvPicPr/>
          <p:nvPr/>
        </p:nvPicPr>
        <p:blipFill>
          <a:blip r:embed="rId1"/>
          <a:stretch/>
        </p:blipFill>
        <p:spPr>
          <a:xfrm>
            <a:off x="250920" y="1881360"/>
            <a:ext cx="4095720" cy="3371760"/>
          </a:xfrm>
          <a:prstGeom prst="rect">
            <a:avLst/>
          </a:prstGeom>
          <a:ln w="0">
            <a:noFill/>
          </a:ln>
        </p:spPr>
      </p:pic>
      <p:sp>
        <p:nvSpPr>
          <p:cNvPr id="176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圆角矩形 3"/>
          <p:cNvSpPr/>
          <p:nvPr/>
        </p:nvSpPr>
        <p:spPr>
          <a:xfrm>
            <a:off x="4427640" y="12682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d"/>
              </a:gs>
              <a:gs pos="100000">
                <a:srgbClr val="d8d7e3"/>
              </a:gs>
            </a:gsLst>
            <a:lin ang="5400000"/>
          </a:gradFill>
          <a:ln w="648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圆角矩形 2"/>
          <p:cNvSpPr/>
          <p:nvPr/>
        </p:nvSpPr>
        <p:spPr>
          <a:xfrm>
            <a:off x="5805360" y="3068640"/>
            <a:ext cx="2087640" cy="164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940360" y="306864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户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788000" y="1057320"/>
            <a:ext cx="4583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b0f0"/>
                </a:solidFill>
                <a:uFillTx/>
                <a:latin typeface="宋体"/>
                <a:ea typeface="宋体"/>
              </a:rPr>
              <a:t>h ù  hù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539640" y="2703600"/>
            <a:ext cx="4430880" cy="3322440"/>
          </a:xfrm>
          <a:prstGeom prst="rect">
            <a:avLst/>
          </a:prstGeom>
          <a:ln w="0">
            <a:noFill/>
          </a:ln>
        </p:spPr>
      </p:pic>
      <p:sp>
        <p:nvSpPr>
          <p:cNvPr id="183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4360" y="909720"/>
            <a:ext cx="82296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                 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ér   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ē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儿  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gē  ge   yǒu   zhī  xiǎo bái  gē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哥 哥   有   只 小  白 鸽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     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xi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ǎ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o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b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i  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ē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à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i  c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à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ng  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ē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小  白 鸽  爱  唱  歌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         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咕 咕 咕，咕 咕  咕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          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ē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t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īng le  xi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à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o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ē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e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哥 哥 听 了笑  呵 呵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6" name="Picture 3" descr="c3ba852ed6441d6ed42af1cc"/>
          <p:cNvPicPr/>
          <p:nvPr/>
        </p:nvPicPr>
        <p:blipFill>
          <a:blip r:embed="rId1"/>
          <a:stretch/>
        </p:blipFill>
        <p:spPr>
          <a:xfrm>
            <a:off x="6804000" y="2637000"/>
            <a:ext cx="1633680" cy="1942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u=2468400631,1213018213&amp;fm=0&amp;gp=0"/>
          <p:cNvPicPr/>
          <p:nvPr/>
        </p:nvPicPr>
        <p:blipFill>
          <a:blip r:embed="rId2"/>
          <a:stretch/>
        </p:blipFill>
        <p:spPr>
          <a:xfrm>
            <a:off x="755640" y="2709720"/>
            <a:ext cx="1130400" cy="1314720"/>
          </a:xfrm>
          <a:prstGeom prst="rect">
            <a:avLst/>
          </a:prstGeom>
          <a:ln w="0">
            <a:noFill/>
          </a:ln>
        </p:spPr>
      </p:pic>
      <p:sp>
        <p:nvSpPr>
          <p:cNvPr id="18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圆角矩形 3"/>
          <p:cNvSpPr/>
          <p:nvPr/>
        </p:nvSpPr>
        <p:spPr>
          <a:xfrm>
            <a:off x="1692360" y="10936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d"/>
              </a:gs>
              <a:gs pos="100000">
                <a:srgbClr val="d8d7e3"/>
              </a:gs>
            </a:gsLst>
            <a:lin ang="5400000"/>
          </a:gradFill>
          <a:ln w="648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圆角矩形 2"/>
          <p:cNvSpPr/>
          <p:nvPr/>
        </p:nvSpPr>
        <p:spPr>
          <a:xfrm>
            <a:off x="468360" y="3068640"/>
            <a:ext cx="655164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58920" y="3429000"/>
            <a:ext cx="1954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gù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685960" y="1268280"/>
            <a:ext cx="32544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b0f0"/>
                </a:solidFill>
                <a:uFillTx/>
                <a:latin typeface="宋体"/>
                <a:ea typeface="宋体"/>
              </a:rPr>
              <a:t>大声读一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381560" y="342900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hé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252440" y="4375080"/>
            <a:ext cx="1954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gè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73640" y="4375080"/>
            <a:ext cx="1954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kè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031840" y="3444840"/>
            <a:ext cx="195444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故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67360" y="3444840"/>
            <a:ext cx="195264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禾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025720" y="442260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个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078520" y="4259160"/>
            <a:ext cx="1954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课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同侧圆角矩形 13"/>
          <p:cNvSpPr/>
          <p:nvPr/>
        </p:nvSpPr>
        <p:spPr>
          <a:xfrm>
            <a:off x="468360" y="12733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随堂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048360" cy="418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2286000" y="5425920"/>
            <a:ext cx="4334040" cy="638280"/>
          </a:xfrm>
          <a:prstGeom prst="rect">
            <a:avLst/>
          </a:prstGeom>
          <a:ln w="0">
            <a:noFill/>
          </a:ln>
        </p:spPr>
      </p:pic>
      <p:sp>
        <p:nvSpPr>
          <p:cNvPr id="10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09440" y="981000"/>
            <a:ext cx="8893440" cy="5248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539400" y="4221000"/>
            <a:ext cx="7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g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5076720" y="4076640"/>
            <a:ext cx="3384720" cy="1702080"/>
            <a:chOff x="5076720" y="4076640"/>
            <a:chExt cx="3384720" cy="1702080"/>
          </a:xfrm>
        </p:grpSpPr>
        <p:grpSp>
          <p:nvGrpSpPr>
            <p:cNvPr id="110" name=""/>
            <p:cNvGrpSpPr/>
            <p:nvPr/>
          </p:nvGrpSpPr>
          <p:grpSpPr>
            <a:xfrm>
              <a:off x="5085000" y="5190480"/>
              <a:ext cx="3360600" cy="360"/>
              <a:chOff x="5085000" y="5190480"/>
              <a:chExt cx="3360600" cy="360"/>
            </a:xfrm>
          </p:grpSpPr>
          <p:sp>
            <p:nvSpPr>
              <p:cNvPr id="111" name="Line 7"/>
              <p:cNvSpPr/>
              <p:nvPr/>
            </p:nvSpPr>
            <p:spPr>
              <a:xfrm>
                <a:off x="5085000" y="5190480"/>
                <a:ext cx="336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5085000" y="5190480"/>
                <a:ext cx="336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076720" y="4636440"/>
              <a:ext cx="3360960" cy="360"/>
              <a:chOff x="5076720" y="4636440"/>
              <a:chExt cx="3360960" cy="360"/>
            </a:xfrm>
          </p:grpSpPr>
          <p:sp>
            <p:nvSpPr>
              <p:cNvPr id="114" name="Line 8"/>
              <p:cNvSpPr/>
              <p:nvPr/>
            </p:nvSpPr>
            <p:spPr>
              <a:xfrm>
                <a:off x="5076720" y="46364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5076720" y="46364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090040" y="5778360"/>
              <a:ext cx="3360960" cy="360"/>
              <a:chOff x="5090040" y="5778360"/>
              <a:chExt cx="3360960" cy="360"/>
            </a:xfrm>
          </p:grpSpPr>
          <p:sp>
            <p:nvSpPr>
              <p:cNvPr id="117" name="Line 9"/>
              <p:cNvSpPr/>
              <p:nvPr/>
            </p:nvSpPr>
            <p:spPr>
              <a:xfrm>
                <a:off x="5090040" y="577836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5090040" y="577836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00480" y="4076640"/>
              <a:ext cx="3360960" cy="360"/>
              <a:chOff x="5100480" y="4076640"/>
              <a:chExt cx="3360960" cy="360"/>
            </a:xfrm>
          </p:grpSpPr>
          <p:sp>
            <p:nvSpPr>
              <p:cNvPr id="120" name="Line 10"/>
              <p:cNvSpPr/>
              <p:nvPr/>
            </p:nvSpPr>
            <p:spPr>
              <a:xfrm>
                <a:off x="5100480" y="40766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5100480" y="40766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22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3902040" cy="432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3673440" cy="2489040"/>
          </a:xfrm>
          <a:prstGeom prst="rect">
            <a:avLst/>
          </a:prstGeom>
          <a:ln w="0">
            <a:noFill/>
          </a:ln>
        </p:spPr>
      </p:pic>
      <p:sp>
        <p:nvSpPr>
          <p:cNvPr id="12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81080" y="982800"/>
            <a:ext cx="871200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5991120" y="3933720"/>
            <a:ext cx="7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4859280" y="3860640"/>
            <a:ext cx="3384720" cy="1702440"/>
            <a:chOff x="4859280" y="3860640"/>
            <a:chExt cx="3384720" cy="1702440"/>
          </a:xfrm>
        </p:grpSpPr>
        <p:grpSp>
          <p:nvGrpSpPr>
            <p:cNvPr id="131" name=""/>
            <p:cNvGrpSpPr/>
            <p:nvPr/>
          </p:nvGrpSpPr>
          <p:grpSpPr>
            <a:xfrm>
              <a:off x="4867560" y="4974840"/>
              <a:ext cx="3360600" cy="360"/>
              <a:chOff x="4867560" y="4974840"/>
              <a:chExt cx="3360600" cy="360"/>
            </a:xfrm>
          </p:grpSpPr>
          <p:sp>
            <p:nvSpPr>
              <p:cNvPr id="132" name="Line 7"/>
              <p:cNvSpPr/>
              <p:nvPr/>
            </p:nvSpPr>
            <p:spPr>
              <a:xfrm>
                <a:off x="4867560" y="4974840"/>
                <a:ext cx="336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4867560" y="4974840"/>
                <a:ext cx="336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859280" y="4420440"/>
              <a:ext cx="3360960" cy="360"/>
              <a:chOff x="4859280" y="4420440"/>
              <a:chExt cx="3360960" cy="360"/>
            </a:xfrm>
          </p:grpSpPr>
          <p:sp>
            <p:nvSpPr>
              <p:cNvPr id="135" name="Line 8"/>
              <p:cNvSpPr/>
              <p:nvPr/>
            </p:nvSpPr>
            <p:spPr>
              <a:xfrm>
                <a:off x="4859280" y="44204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4859280" y="44204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872600" y="5562720"/>
              <a:ext cx="3360960" cy="360"/>
              <a:chOff x="4872600" y="5562720"/>
              <a:chExt cx="3360960" cy="360"/>
            </a:xfrm>
          </p:grpSpPr>
          <p:sp>
            <p:nvSpPr>
              <p:cNvPr id="138" name="Line 9"/>
              <p:cNvSpPr/>
              <p:nvPr/>
            </p:nvSpPr>
            <p:spPr>
              <a:xfrm>
                <a:off x="4872600" y="556272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4872600" y="556272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883040" y="3860640"/>
              <a:ext cx="3360960" cy="360"/>
              <a:chOff x="4883040" y="3860640"/>
              <a:chExt cx="3360960" cy="360"/>
            </a:xfrm>
          </p:grpSpPr>
          <p:sp>
            <p:nvSpPr>
              <p:cNvPr id="141" name="Line 10"/>
              <p:cNvSpPr/>
              <p:nvPr/>
            </p:nvSpPr>
            <p:spPr>
              <a:xfrm>
                <a:off x="4883040" y="38606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4883040" y="38606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43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96720" y="981000"/>
            <a:ext cx="8352000" cy="53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g—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ɑ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Arial Unicode MS"/>
              </a:rPr>
              <a:t>→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g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ɑ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k—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ɑ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→k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ɑ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h—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ɑ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Arial Unicode MS"/>
              </a:rPr>
              <a:t>→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h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ɑ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ge   ku   hu   ke 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 </a:t>
            </a:r>
            <a:r>
              <a:rPr b="0" i="1" lang="en-US" sz="5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he  gu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同侧圆角矩形 4"/>
          <p:cNvSpPr/>
          <p:nvPr/>
        </p:nvSpPr>
        <p:spPr>
          <a:xfrm>
            <a:off x="6227640" y="1197000"/>
            <a:ext cx="200052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6227640" y="1904760"/>
            <a:ext cx="2071800" cy="46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2268360" y="1886040"/>
            <a:ext cx="4321440" cy="4368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3852720" y="2927520"/>
            <a:ext cx="115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g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4311720" y="1054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6767ff"/>
                </a:solidFill>
                <a:uFillTx/>
                <a:latin typeface="Calibri"/>
                <a:ea typeface="华文新魏"/>
              </a:rPr>
              <a:t>的写法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3210480" y="987480"/>
            <a:ext cx="5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g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8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321440" cy="43689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"/>
          <p:cNvSpPr/>
          <p:nvPr/>
        </p:nvSpPr>
        <p:spPr>
          <a:xfrm>
            <a:off x="61128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6767ff"/>
                </a:solidFill>
                <a:uFillTx/>
                <a:latin typeface="华文新魏"/>
                <a:ea typeface="华文新魏"/>
                <a:hlinkClick r:id="rId2"/>
              </a:rPr>
              <a:t>K</a:t>
            </a:r>
            <a:r>
              <a:rPr b="0" i="1" lang="zh-CN" sz="6000" spc="-1" strike="noStrike" u="sng">
                <a:solidFill>
                  <a:srgbClr val="6767ff"/>
                </a:solidFill>
                <a:uFillTx/>
                <a:latin typeface="华文新魏"/>
                <a:ea typeface="华文新魏"/>
                <a:hlinkClick r:id="rId3"/>
              </a:rPr>
              <a:t>的写法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3699720" y="3460680"/>
            <a:ext cx="64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k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8" descr=""/>
          <p:cNvPicPr/>
          <p:nvPr/>
        </p:nvPicPr>
        <p:blipFill>
          <a:blip r:embed="rId1"/>
          <a:stretch/>
        </p:blipFill>
        <p:spPr>
          <a:xfrm>
            <a:off x="2249640" y="2014560"/>
            <a:ext cx="4319280" cy="43686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1979640" y="960480"/>
            <a:ext cx="55213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"/>
              </a:rPr>
              <a:t>_x000b_ </a:t>
            </a:r>
            <a:r>
              <a:rPr b="0" i="1" lang="en-US" sz="6000" spc="-1" strike="noStrike" u="sng">
                <a:solidFill>
                  <a:srgbClr val="6767ff"/>
                </a:solidFill>
                <a:uFillTx/>
                <a:latin typeface="华文新魏"/>
                <a:ea typeface="华文新魏"/>
                <a:hlinkClick r:id="rId3"/>
              </a:rPr>
              <a:t>h</a:t>
            </a:r>
            <a:r>
              <a:rPr b="0" i="1" lang="zh-CN" sz="6000" spc="-1" strike="noStrike" u="sng">
                <a:solidFill>
                  <a:srgbClr val="6767ff"/>
                </a:solidFill>
                <a:uFillTx/>
                <a:latin typeface="华文新魏"/>
                <a:ea typeface="华文新魏"/>
                <a:hlinkClick r:id="rId4"/>
              </a:rPr>
              <a:t>的写法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057560" y="3543480"/>
            <a:ext cx="7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1:39:48Z</dcterms:created>
  <dc:creator/>
  <dc:description/>
  <dc:language>en-US</dc:language>
  <cp:lastModifiedBy>万润仪器贸易公司</cp:lastModifiedBy>
  <dcterms:modified xsi:type="dcterms:W3CDTF">2020-08-24T01:39:55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